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D7E-122B-45D8-BD1E-25873502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9AA-D80E-4145-AB96-217C175C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504-C513-46F1-BBF2-5F52F6A7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B47-CB92-4FF4-87F7-8877100C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0BAF-ED5D-4E4F-9DBA-2AA5B31F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3AA4-E714-4196-8299-523576BD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428-CF5C-447D-B72B-4F5FD91D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F268-F5BC-41F0-AB51-9C72F821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2799-1924-4E01-B4EB-4A969D4F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FF20-6E11-460F-99D6-5B506BFB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9C69-E67F-4340-B4A4-EFC8145C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CF3-B7D0-4C65-8188-FF4E30E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847D-D8E9-4488-B266-60765286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C589-8C33-4EC2-9964-A9D14E46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EE5E-55F3-499B-BC87-209A2E3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DC5-D10C-4BBF-A934-BACA6A33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184C-054B-4ECC-A02D-2C2D3144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A83-7832-42A5-8C36-67A8F8E3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FD3-18D0-4E3C-8DA5-627CD580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4FE-D924-41D9-88B8-3A582C0B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4B8-76A5-4E8F-A264-5456D7D6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668-53CC-4463-BD71-AD415C64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CB5-8A58-476D-912A-24C5FB51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77F-D4D7-4C08-A28D-557660C3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BC55-DD45-41D0-893E-1C0B1E3DF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D3CD-BFA3-4E89-B967-4005B200C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508428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5" descr="j0252713[1]"/>
          <p:cNvPicPr/>
          <p:nvPr/>
        </p:nvPicPr>
        <p:blipFill>
          <a:blip r:embed="rId1"/>
          <a:stretch/>
        </p:blipFill>
        <p:spPr>
          <a:xfrm>
            <a:off x="5076720" y="3124080"/>
            <a:ext cx="3313080" cy="311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bs1.jpg"/>
          <p:cNvPicPr/>
          <p:nvPr/>
        </p:nvPicPr>
        <p:blipFill>
          <a:blip r:embed="rId2"/>
          <a:stretch/>
        </p:blipFill>
        <p:spPr>
          <a:xfrm>
            <a:off x="785880" y="5143680"/>
            <a:ext cx="393048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Ledg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ledge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n all encompassing term used to track hotel transactions primarily before and during a guest’s or group’s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 ledger is also used to track the daily transactions of each revenue-generating side of the hotel triangle (room, catering, and outlet/ancillary sa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will create an account within the guest ledger to track the inflow and outflow of reven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Led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ypes of accounts may vary in name from hotel to hotel but the functions of each are generally consistent, the most frequently used types 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use Account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s as a perpetual account to track recurring transactions that occur within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individual guest account will track debits and credits incurred prior to and during the st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Led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ster Account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ly mirrors the individual guest account, the main difference is that a master account encompasses registration/accounting for an entire group, not individual attende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guest and group charges related to a specific group based on billing arrangements are routed to the master account as applic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ut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process where credits/debits incurred by one account are manually or automatically transferred to another acc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y Ledg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ity ledger is used to track revenues due to the hotel, these revenues are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mployee(s) of the Accounts Receivables area of the accounting department will manage the city ledger by creating a city ledger account in the accounting menu of the PMS for each guest ledger account that checks out with a balance due to the hot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y Ledger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uest ledger must be cleared of noncurrent accounts to make way for new arriv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oncurrent account is measured by its departure date, which is directly tied to the creation of guest history ac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a balance outstanding on an “aged” account, a city ledger is created to track those reven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s depend on revenue to cover their costs so within the city ledger an “aging statement” will track how long reach receivable has remained uncoll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Entr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cess of updating the accounting menu is achieved through a series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t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tel accounting entries serve specific purposes to accurately document each 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ront office accounting formula summarises how these entries are tallied u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00000" y="55166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ginning Balance + Charges – Credits = Ending Bal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Accounting and the Front De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desk employees may handle cash throughout their day – guests may choose to pay with cash even though they put down a credit card number at check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allow their guests to cash personal cheque of a certain amount, and often exchange foreign currency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desk agents must be able to handle these transactions so each has their own “individual bank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uest Accounting and the Front Desk (Cont…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bank is audited by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l cashi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ensure that proper accounting procedures are adhered to and to avoid fr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nks are counted prior to each shift to ensure that the minimum reserve is there and at the end of each shift, a “cash out” process is undertaken to match all transactions with what is now in each individual 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desk employees “drop” their excess cash to the general cashier, who then replenishes individual banks if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hift Clos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esk agent will run an report from the PMS called a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ee shift closing re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employee is assigned an identification number within the PMS to track his/her trans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each agent on a shift has completed his or her own employee shift report, the manager may conduct an entire shift closing which will summarise all the transactions completed by each shift me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ent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2041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ounting Bas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ounting Ent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ounting Docu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est Accounting and the Front Des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counting equation is the most basic of all the accounting principles for the dissemination of information. It states th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sset is an economic re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iability is an economic oblig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wner’s equity is the level of ownership the owner has in the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87280" y="328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ets = Liabilities + Owner’s Equ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counting equation must always be in balance, the two sides of the equal (=) sign must themselves be equ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equation can show at a glance the financial state of any business, however does not show great deta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of the limited detail, the accounting equation is used more often to illustrate details of smaller business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wner-operated hotels would use the accounting equation most of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example of the accounting equation used in a small owner-operated hote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re, the Wilson family can claim ownership (or equity) in this operation of $136,5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908000" y="3645000"/>
            <a:ext cx="547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lson Family In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450,000 - $313,500 = $136,500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ets) – (liabilities) = owner’s equit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more financial detail, lenders, investors, shareholders and others look into a hotel’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ance sheet serves to summarize a hotel’s financial situation on a given date, and serves as a financial “snapshot” of the current state of assets, liabilities and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ing our example, the Wilson family’s balance sheet for their hotel could look like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ounting Basics (Cont….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lson Family In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lance Sheet - Dec 31, 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5280" y="2592360"/>
          <a:ext cx="8172360" cy="3502080"/>
        </p:xfrm>
        <a:graphic>
          <a:graphicData uri="http://schemas.openxmlformats.org/drawingml/2006/table">
            <a:tbl>
              <a:tblPr/>
              <a:tblGrid>
                <a:gridCol w="2043000"/>
                <a:gridCol w="2043360"/>
                <a:gridCol w="2043000"/>
                <a:gridCol w="20430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abiliti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5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ounts pay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2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eaning suppl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aries pay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xes pay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&amp;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0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 payabl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95,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5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Liabilit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313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il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6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wners Equ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fice Suppli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lson, capi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36,5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sse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0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quity and liabil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450,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otels use traditional accounting concepts to organise and track guest information and other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ing of financial transactions within the front office is call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est accoun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erm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ledger”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used to identify what information is contained in a certain revenue tracking veh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hicles used to track the revenues and charges within the front office are the guest ledger and the city led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uest Accounting (Cont…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of these ledgers serves as an accounting vehicle for a hotel to track who it owes money to and who owes it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rimary accounting entries used to track these charges and credits are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bi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red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bit has a positive affect on the total balance of a guest account and the credit has a negative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nt office employees deal with these credits and debits on a daily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6:28:41Z</dcterms:created>
  <dc:creator>Chris Drzewucki</dc:creator>
  <dc:description/>
  <dc:language>en-US</dc:language>
  <cp:lastModifiedBy>robert</cp:lastModifiedBy>
  <dcterms:modified xsi:type="dcterms:W3CDTF">2011-04-14T03:28:23Z</dcterms:modified>
  <cp:revision>151</cp:revision>
  <dc:subject/>
  <dc:title>FRONT OFFICE OPERATIONS MANAGEMENT</dc:title>
</cp:coreProperties>
</file>